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183A-072A-4C53-A7C4-0DF7F06C3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5523-2F09-493C-864A-3979024724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A99-14DE-466C-8BFF-6A3F36D6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17D-212C-4CF9-9D51-F757E514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0C1-F938-4935-AA51-663BBA5D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4B34-9E66-40BF-91C6-681F42D9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1F90-2C5F-4EBB-ABAD-5FEC50FB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D59E-6AA6-42C5-B2C5-5DA88A2D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1C3-ACCA-4485-B103-3193A659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6DB-5780-44BE-95CF-03763BDF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A17-27B7-48E0-AA2E-50046021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175-B8D4-479A-B913-7482F20D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07D-3F5D-40FA-AB29-7088CFDF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8E0-6F9A-48D1-89B5-D92F1B92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64A2-46AA-4E71-BFCD-1063640F1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3049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さんへの期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09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記入者　所属：　　　　　　　　　　　　　氏名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8600" y="990720"/>
            <a:ext cx="6629400" cy="63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１　（　）年間、あなたと働いてきて（上司として、あなたを見て）の感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２　あなたの強みや評価したい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　　①強みとなる行動特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　　②強みとなる能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３　今後の期待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　　①個人としての５年後の活躍の姿やイメ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　　②上記を実現させるために、必要な行動や伸ばして欲しい能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8"/>
          <p:cNvGraphicFramePr/>
          <p:nvPr/>
        </p:nvGraphicFramePr>
        <p:xfrm>
          <a:off x="380880" y="228600"/>
          <a:ext cx="83844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384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テキスト ボックス 1"/>
          <p:cNvSpPr/>
          <p:nvPr/>
        </p:nvSpPr>
        <p:spPr>
          <a:xfrm>
            <a:off x="244440" y="8472600"/>
            <a:ext cx="6369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BIZ UDPゴシック"/>
                <a:ea typeface="BIZ UDPゴシック"/>
              </a:rPr>
              <a:t>【</a:t>
            </a:r>
            <a:r>
              <a:rPr b="1" lang="ja-JP" sz="1100" spc="-1" strike="noStrike">
                <a:solidFill>
                  <a:srgbClr val="ff0000"/>
                </a:solidFill>
                <a:latin typeface="BIZ UDPゴシック"/>
                <a:ea typeface="BIZ UDPゴシック"/>
              </a:rPr>
              <a:t>記入される上司の方へのお願い</a:t>
            </a:r>
            <a:r>
              <a:rPr b="1" lang="en-US" sz="1100" spc="-1" strike="noStrike">
                <a:solidFill>
                  <a:srgbClr val="ff0000"/>
                </a:solidFill>
                <a:latin typeface="BIZ UDPゴシック"/>
                <a:ea typeface="BIZ UDPゴシック"/>
              </a:rPr>
              <a:t>】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BIZ UDPゴシック"/>
                <a:ea typeface="BIZ UDPゴシック"/>
              </a:rPr>
              <a:t>　御記入・御入力の上、中身が分からないように</a:t>
            </a:r>
            <a:r>
              <a:rPr b="1" lang="ja-JP" sz="1100" spc="-1" strike="noStrike" u="sng">
                <a:solidFill>
                  <a:srgbClr val="ff0000"/>
                </a:solidFill>
                <a:uFillTx/>
                <a:latin typeface="BIZ UDPゴシック"/>
                <a:ea typeface="BIZ UDPゴシック"/>
              </a:rPr>
              <a:t>封筒に入れてのりづけ</a:t>
            </a:r>
            <a:r>
              <a:rPr b="1" lang="ja-JP" sz="1100" spc="-1" strike="noStrike">
                <a:solidFill>
                  <a:srgbClr val="ff0000"/>
                </a:solidFill>
                <a:latin typeface="BIZ UDPゴシック"/>
                <a:ea typeface="BIZ UDPゴシック"/>
              </a:rPr>
              <a:t>していただき、受講者へお渡しください。よろしくお願いいたします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11:43:30Z</dcterms:created>
  <dc:creator>TAS</dc:creator>
  <dc:description/>
  <dc:language>en-US</dc:language>
  <cp:lastModifiedBy>山本 香織</cp:lastModifiedBy>
  <dcterms:modified xsi:type="dcterms:W3CDTF">2025-06-23T02:09:19Z</dcterms:modified>
  <cp:revision>9</cp:revision>
  <dc:subject/>
  <dc:title>PowerPoint プレゼンテーション</dc:title>
</cp:coreProperties>
</file>