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B22D-712C-48EC-8B21-E6B22B87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7D94-BFED-44C8-8D01-51F209C28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959120" y="1295280"/>
            <a:ext cx="2938320" cy="22035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D32A-9328-4D8C-B861-1DB143FF0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959120" y="1295280"/>
            <a:ext cx="2938320" cy="2203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A86-F5D0-46D6-A4DA-D88D727E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0D6-483C-4A48-AF39-351553D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651-6D65-4A6E-AE21-4FCA2A55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ABB-9EE6-4ADF-95E3-394C7200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C57-87B3-435B-A30A-49E31D6D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6C4-B53F-4199-85C0-2B3635B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19D-E83C-4194-927A-B5C2F2A3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317-D029-4F8B-BC0D-F6668F44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5F5-325F-4608-9D57-18179920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988-95E1-4162-B3E5-7785DFD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016-BDEC-4AFB-A1D9-8ABF9D9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332-02DD-4281-8BC4-580E6F3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5F2-CC18-4C81-894F-66FEFA146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398520"/>
            <a:ext cx="656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5000"/>
              <a:buFont typeface="Wingdings" charset="2"/>
              <a:buChar char="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ＰPOP体"/>
                <a:ea typeface="ＤＦＰPOP体"/>
              </a:rPr>
              <a:t>これまでの自分をふりかえろ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248520" y="32544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2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　　月　　日（　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氏名  熊本　八代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58560" y="766800"/>
            <a:ext cx="8639280" cy="5668920"/>
            <a:chOff x="358560" y="766800"/>
            <a:chExt cx="8639280" cy="5668920"/>
          </a:xfrm>
        </p:grpSpPr>
        <p:sp>
          <p:nvSpPr>
            <p:cNvPr id="51" name="Rectangle 5"/>
            <p:cNvSpPr/>
            <p:nvPr/>
          </p:nvSpPr>
          <p:spPr>
            <a:xfrm>
              <a:off x="527040" y="766800"/>
              <a:ext cx="8470800" cy="566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6"/>
            <p:cNvSpPr/>
            <p:nvPr/>
          </p:nvSpPr>
          <p:spPr>
            <a:xfrm>
              <a:off x="154620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7"/>
            <p:cNvSpPr/>
            <p:nvPr/>
          </p:nvSpPr>
          <p:spPr>
            <a:xfrm>
              <a:off x="193896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233100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272376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35071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31147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389988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468324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42919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507564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5468040" y="1503360"/>
              <a:ext cx="0" cy="4932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586080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625320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664416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70369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742896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78217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82123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860508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527040" y="150336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527040" y="187056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527040" y="326916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527040" y="437436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527040" y="555264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0"/>
            <p:cNvSpPr/>
            <p:nvPr/>
          </p:nvSpPr>
          <p:spPr>
            <a:xfrm>
              <a:off x="541080" y="1868760"/>
              <a:ext cx="362880" cy="13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元気度・満足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358560" y="3268080"/>
              <a:ext cx="54540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担当した仕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32"/>
            <p:cNvSpPr/>
            <p:nvPr/>
          </p:nvSpPr>
          <p:spPr>
            <a:xfrm>
              <a:off x="358560" y="4374360"/>
              <a:ext cx="545400" cy="11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身につけた能力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1111320" y="2521080"/>
              <a:ext cx="784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4"/>
            <p:cNvSpPr/>
            <p:nvPr/>
          </p:nvSpPr>
          <p:spPr>
            <a:xfrm>
              <a:off x="840600" y="1868760"/>
              <a:ext cx="39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5"/>
            <p:cNvSpPr/>
            <p:nvPr/>
          </p:nvSpPr>
          <p:spPr>
            <a:xfrm>
              <a:off x="840600" y="2972520"/>
              <a:ext cx="39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537480" y="1134720"/>
              <a:ext cx="3664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27040" y="766800"/>
              <a:ext cx="8470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入庁の理由　　　　　　　　　　　　　　　　　　　　　　　入庁時の夢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　　　　　　　　　　　　　　　　　　　　　　　　夢の行方　　　　　　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38"/>
            <p:cNvSpPr/>
            <p:nvPr/>
          </p:nvSpPr>
          <p:spPr>
            <a:xfrm>
              <a:off x="358560" y="5697360"/>
              <a:ext cx="5454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私生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11113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40"/>
          <p:cNvSpPr/>
          <p:nvPr/>
        </p:nvSpPr>
        <p:spPr>
          <a:xfrm>
            <a:off x="527040" y="6583320"/>
            <a:ext cx="847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なたの傾向：＋の要因　　　　　　　　　　　　　　　　　　　　　－の要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1"/>
          <p:cNvSpPr/>
          <p:nvPr/>
        </p:nvSpPr>
        <p:spPr>
          <a:xfrm>
            <a:off x="1184400" y="3490920"/>
            <a:ext cx="2076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●</a:t>
            </a: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　総務部職員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新入社員教育の企画、運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研修施設の維持・管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3666960" y="3417840"/>
            <a:ext cx="1514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総務部事務センタ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給与担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・旅費担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庶務担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6751800" y="3371760"/>
            <a:ext cx="2081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県警本部（出向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各種申請・手続き担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県警施設の管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184400" y="4595760"/>
            <a:ext cx="1752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ビジネスマナ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行政に関する基礎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仕事の流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研修運営全般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1257480" y="57736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おきにアジアに旅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4267080" y="5791320"/>
            <a:ext cx="94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結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5370480" y="577368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地震でショック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0"/>
          <p:cNvSpPr/>
          <p:nvPr/>
        </p:nvSpPr>
        <p:spPr>
          <a:xfrm>
            <a:off x="3740040" y="4668840"/>
            <a:ext cx="14605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給与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旅費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労務管理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福利厚生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1"/>
          <p:cNvSpPr/>
          <p:nvPr/>
        </p:nvSpPr>
        <p:spPr>
          <a:xfrm>
            <a:off x="6707160" y="4606920"/>
            <a:ext cx="1752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各種制度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道路交通法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運転免許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外部関係者との折衝技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52"/>
          <p:cNvSpPr/>
          <p:nvPr/>
        </p:nvSpPr>
        <p:spPr>
          <a:xfrm>
            <a:off x="1295280" y="2133720"/>
            <a:ext cx="7556760" cy="1096920"/>
          </a:xfrm>
          <a:custGeom>
            <a:avLst/>
            <a:gdLst>
              <a:gd name="textAreaLeft" fmla="*/ 0 w 7556760"/>
              <a:gd name="textAreaRight" fmla="*/ 7557120 w 7556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4584" h="715">
                <a:moveTo>
                  <a:pt x="0" y="0"/>
                </a:moveTo>
                <a:cubicBezTo>
                  <a:pt x="16" y="5"/>
                  <a:pt x="34" y="7"/>
                  <a:pt x="48" y="16"/>
                </a:cubicBezTo>
                <a:cubicBezTo>
                  <a:pt x="64" y="27"/>
                  <a:pt x="96" y="48"/>
                  <a:pt x="96" y="48"/>
                </a:cubicBezTo>
                <a:cubicBezTo>
                  <a:pt x="142" y="117"/>
                  <a:pt x="81" y="36"/>
                  <a:pt x="136" y="80"/>
                </a:cubicBezTo>
                <a:cubicBezTo>
                  <a:pt x="144" y="86"/>
                  <a:pt x="144" y="98"/>
                  <a:pt x="152" y="104"/>
                </a:cubicBezTo>
                <a:cubicBezTo>
                  <a:pt x="159" y="109"/>
                  <a:pt x="169" y="108"/>
                  <a:pt x="176" y="112"/>
                </a:cubicBezTo>
                <a:cubicBezTo>
                  <a:pt x="193" y="121"/>
                  <a:pt x="208" y="133"/>
                  <a:pt x="224" y="144"/>
                </a:cubicBezTo>
                <a:cubicBezTo>
                  <a:pt x="232" y="149"/>
                  <a:pt x="248" y="160"/>
                  <a:pt x="248" y="160"/>
                </a:cubicBezTo>
                <a:cubicBezTo>
                  <a:pt x="292" y="226"/>
                  <a:pt x="234" y="150"/>
                  <a:pt x="288" y="192"/>
                </a:cubicBezTo>
                <a:cubicBezTo>
                  <a:pt x="306" y="206"/>
                  <a:pt x="317" y="227"/>
                  <a:pt x="336" y="240"/>
                </a:cubicBezTo>
                <a:cubicBezTo>
                  <a:pt x="344" y="245"/>
                  <a:pt x="352" y="251"/>
                  <a:pt x="360" y="256"/>
                </a:cubicBezTo>
                <a:cubicBezTo>
                  <a:pt x="417" y="342"/>
                  <a:pt x="328" y="212"/>
                  <a:pt x="400" y="304"/>
                </a:cubicBezTo>
                <a:cubicBezTo>
                  <a:pt x="450" y="369"/>
                  <a:pt x="410" y="337"/>
                  <a:pt x="456" y="368"/>
                </a:cubicBezTo>
                <a:cubicBezTo>
                  <a:pt x="473" y="394"/>
                  <a:pt x="510" y="431"/>
                  <a:pt x="536" y="448"/>
                </a:cubicBezTo>
                <a:cubicBezTo>
                  <a:pt x="553" y="474"/>
                  <a:pt x="577" y="521"/>
                  <a:pt x="600" y="544"/>
                </a:cubicBezTo>
                <a:cubicBezTo>
                  <a:pt x="662" y="606"/>
                  <a:pt x="582" y="531"/>
                  <a:pt x="656" y="584"/>
                </a:cubicBezTo>
                <a:cubicBezTo>
                  <a:pt x="697" y="613"/>
                  <a:pt x="662" y="603"/>
                  <a:pt x="704" y="624"/>
                </a:cubicBezTo>
                <a:cubicBezTo>
                  <a:pt x="753" y="649"/>
                  <a:pt x="801" y="663"/>
                  <a:pt x="856" y="672"/>
                </a:cubicBezTo>
                <a:cubicBezTo>
                  <a:pt x="880" y="688"/>
                  <a:pt x="904" y="696"/>
                  <a:pt x="928" y="712"/>
                </a:cubicBezTo>
                <a:cubicBezTo>
                  <a:pt x="965" y="709"/>
                  <a:pt x="1003" y="710"/>
                  <a:pt x="1040" y="704"/>
                </a:cubicBezTo>
                <a:cubicBezTo>
                  <a:pt x="1092" y="696"/>
                  <a:pt x="1152" y="666"/>
                  <a:pt x="1184" y="624"/>
                </a:cubicBezTo>
                <a:cubicBezTo>
                  <a:pt x="1213" y="587"/>
                  <a:pt x="1219" y="560"/>
                  <a:pt x="1256" y="536"/>
                </a:cubicBezTo>
                <a:cubicBezTo>
                  <a:pt x="1278" y="470"/>
                  <a:pt x="1240" y="572"/>
                  <a:pt x="1312" y="464"/>
                </a:cubicBezTo>
                <a:cubicBezTo>
                  <a:pt x="1339" y="424"/>
                  <a:pt x="1350" y="378"/>
                  <a:pt x="1384" y="344"/>
                </a:cubicBezTo>
                <a:cubicBezTo>
                  <a:pt x="1403" y="286"/>
                  <a:pt x="1454" y="241"/>
                  <a:pt x="1504" y="208"/>
                </a:cubicBezTo>
                <a:cubicBezTo>
                  <a:pt x="1531" y="168"/>
                  <a:pt x="1512" y="189"/>
                  <a:pt x="1568" y="152"/>
                </a:cubicBezTo>
                <a:cubicBezTo>
                  <a:pt x="1576" y="147"/>
                  <a:pt x="1592" y="136"/>
                  <a:pt x="1592" y="136"/>
                </a:cubicBezTo>
                <a:cubicBezTo>
                  <a:pt x="1630" y="78"/>
                  <a:pt x="1576" y="149"/>
                  <a:pt x="1656" y="96"/>
                </a:cubicBezTo>
                <a:cubicBezTo>
                  <a:pt x="1703" y="65"/>
                  <a:pt x="1724" y="49"/>
                  <a:pt x="1776" y="32"/>
                </a:cubicBezTo>
                <a:cubicBezTo>
                  <a:pt x="1792" y="27"/>
                  <a:pt x="1808" y="21"/>
                  <a:pt x="1824" y="16"/>
                </a:cubicBezTo>
                <a:cubicBezTo>
                  <a:pt x="1832" y="13"/>
                  <a:pt x="1848" y="8"/>
                  <a:pt x="1848" y="8"/>
                </a:cubicBezTo>
                <a:cubicBezTo>
                  <a:pt x="1901" y="11"/>
                  <a:pt x="1955" y="9"/>
                  <a:pt x="2008" y="16"/>
                </a:cubicBezTo>
                <a:cubicBezTo>
                  <a:pt x="2018" y="17"/>
                  <a:pt x="2023" y="28"/>
                  <a:pt x="2032" y="32"/>
                </a:cubicBezTo>
                <a:cubicBezTo>
                  <a:pt x="2047" y="39"/>
                  <a:pt x="2066" y="39"/>
                  <a:pt x="2080" y="48"/>
                </a:cubicBezTo>
                <a:cubicBezTo>
                  <a:pt x="2115" y="71"/>
                  <a:pt x="2142" y="97"/>
                  <a:pt x="2176" y="120"/>
                </a:cubicBezTo>
                <a:cubicBezTo>
                  <a:pt x="2231" y="203"/>
                  <a:pt x="2143" y="79"/>
                  <a:pt x="2224" y="160"/>
                </a:cubicBezTo>
                <a:cubicBezTo>
                  <a:pt x="2317" y="253"/>
                  <a:pt x="2212" y="179"/>
                  <a:pt x="2280" y="224"/>
                </a:cubicBezTo>
                <a:cubicBezTo>
                  <a:pt x="2285" y="232"/>
                  <a:pt x="2289" y="241"/>
                  <a:pt x="2296" y="248"/>
                </a:cubicBezTo>
                <a:cubicBezTo>
                  <a:pt x="2303" y="255"/>
                  <a:pt x="2314" y="257"/>
                  <a:pt x="2320" y="264"/>
                </a:cubicBezTo>
                <a:cubicBezTo>
                  <a:pt x="2385" y="339"/>
                  <a:pt x="2322" y="292"/>
                  <a:pt x="2376" y="328"/>
                </a:cubicBezTo>
                <a:cubicBezTo>
                  <a:pt x="2401" y="366"/>
                  <a:pt x="2442" y="414"/>
                  <a:pt x="2480" y="440"/>
                </a:cubicBezTo>
                <a:cubicBezTo>
                  <a:pt x="2485" y="448"/>
                  <a:pt x="2489" y="457"/>
                  <a:pt x="2496" y="464"/>
                </a:cubicBezTo>
                <a:cubicBezTo>
                  <a:pt x="2503" y="471"/>
                  <a:pt x="2514" y="473"/>
                  <a:pt x="2520" y="480"/>
                </a:cubicBezTo>
                <a:cubicBezTo>
                  <a:pt x="2573" y="540"/>
                  <a:pt x="2527" y="520"/>
                  <a:pt x="2576" y="536"/>
                </a:cubicBezTo>
                <a:cubicBezTo>
                  <a:pt x="2594" y="564"/>
                  <a:pt x="2612" y="582"/>
                  <a:pt x="2640" y="600"/>
                </a:cubicBezTo>
                <a:cubicBezTo>
                  <a:pt x="2653" y="640"/>
                  <a:pt x="2640" y="621"/>
                  <a:pt x="2696" y="640"/>
                </a:cubicBezTo>
                <a:cubicBezTo>
                  <a:pt x="2712" y="645"/>
                  <a:pt x="2744" y="656"/>
                  <a:pt x="2744" y="656"/>
                </a:cubicBezTo>
                <a:cubicBezTo>
                  <a:pt x="2818" y="648"/>
                  <a:pt x="2817" y="655"/>
                  <a:pt x="2856" y="608"/>
                </a:cubicBezTo>
                <a:cubicBezTo>
                  <a:pt x="2863" y="599"/>
                  <a:pt x="2873" y="593"/>
                  <a:pt x="2880" y="584"/>
                </a:cubicBezTo>
                <a:cubicBezTo>
                  <a:pt x="2892" y="569"/>
                  <a:pt x="2912" y="536"/>
                  <a:pt x="2912" y="536"/>
                </a:cubicBezTo>
                <a:cubicBezTo>
                  <a:pt x="2932" y="455"/>
                  <a:pt x="2963" y="385"/>
                  <a:pt x="3000" y="312"/>
                </a:cubicBezTo>
                <a:cubicBezTo>
                  <a:pt x="3024" y="264"/>
                  <a:pt x="3050" y="206"/>
                  <a:pt x="3088" y="168"/>
                </a:cubicBezTo>
                <a:cubicBezTo>
                  <a:pt x="3107" y="149"/>
                  <a:pt x="3122" y="152"/>
                  <a:pt x="3144" y="136"/>
                </a:cubicBezTo>
                <a:cubicBezTo>
                  <a:pt x="3196" y="99"/>
                  <a:pt x="3141" y="121"/>
                  <a:pt x="3192" y="104"/>
                </a:cubicBezTo>
                <a:cubicBezTo>
                  <a:pt x="3252" y="124"/>
                  <a:pt x="3262" y="169"/>
                  <a:pt x="3296" y="216"/>
                </a:cubicBezTo>
                <a:cubicBezTo>
                  <a:pt x="3319" y="249"/>
                  <a:pt x="3343" y="274"/>
                  <a:pt x="3360" y="312"/>
                </a:cubicBezTo>
                <a:cubicBezTo>
                  <a:pt x="3376" y="349"/>
                  <a:pt x="3379" y="376"/>
                  <a:pt x="3400" y="408"/>
                </a:cubicBezTo>
                <a:cubicBezTo>
                  <a:pt x="3409" y="445"/>
                  <a:pt x="3427" y="480"/>
                  <a:pt x="3448" y="512"/>
                </a:cubicBezTo>
                <a:cubicBezTo>
                  <a:pt x="3460" y="561"/>
                  <a:pt x="3492" y="598"/>
                  <a:pt x="3520" y="640"/>
                </a:cubicBezTo>
                <a:cubicBezTo>
                  <a:pt x="3525" y="648"/>
                  <a:pt x="3531" y="656"/>
                  <a:pt x="3536" y="664"/>
                </a:cubicBezTo>
                <a:cubicBezTo>
                  <a:pt x="3541" y="672"/>
                  <a:pt x="3552" y="688"/>
                  <a:pt x="3552" y="688"/>
                </a:cubicBezTo>
                <a:cubicBezTo>
                  <a:pt x="3621" y="665"/>
                  <a:pt x="3620" y="614"/>
                  <a:pt x="3632" y="552"/>
                </a:cubicBezTo>
                <a:cubicBezTo>
                  <a:pt x="3639" y="445"/>
                  <a:pt x="3646" y="342"/>
                  <a:pt x="3680" y="240"/>
                </a:cubicBezTo>
                <a:cubicBezTo>
                  <a:pt x="3696" y="193"/>
                  <a:pt x="3701" y="157"/>
                  <a:pt x="3744" y="128"/>
                </a:cubicBezTo>
                <a:cubicBezTo>
                  <a:pt x="3749" y="120"/>
                  <a:pt x="3752" y="109"/>
                  <a:pt x="3760" y="104"/>
                </a:cubicBezTo>
                <a:cubicBezTo>
                  <a:pt x="3774" y="95"/>
                  <a:pt x="3808" y="88"/>
                  <a:pt x="3808" y="88"/>
                </a:cubicBezTo>
                <a:cubicBezTo>
                  <a:pt x="3824" y="93"/>
                  <a:pt x="3840" y="99"/>
                  <a:pt x="3856" y="104"/>
                </a:cubicBezTo>
                <a:cubicBezTo>
                  <a:pt x="3864" y="107"/>
                  <a:pt x="3880" y="112"/>
                  <a:pt x="3880" y="112"/>
                </a:cubicBezTo>
                <a:cubicBezTo>
                  <a:pt x="3885" y="120"/>
                  <a:pt x="3889" y="129"/>
                  <a:pt x="3896" y="136"/>
                </a:cubicBezTo>
                <a:cubicBezTo>
                  <a:pt x="3903" y="143"/>
                  <a:pt x="3914" y="144"/>
                  <a:pt x="3920" y="152"/>
                </a:cubicBezTo>
                <a:cubicBezTo>
                  <a:pt x="3925" y="159"/>
                  <a:pt x="3923" y="169"/>
                  <a:pt x="3928" y="176"/>
                </a:cubicBezTo>
                <a:cubicBezTo>
                  <a:pt x="3934" y="185"/>
                  <a:pt x="3944" y="192"/>
                  <a:pt x="3952" y="200"/>
                </a:cubicBezTo>
                <a:cubicBezTo>
                  <a:pt x="3978" y="279"/>
                  <a:pt x="4023" y="349"/>
                  <a:pt x="4056" y="424"/>
                </a:cubicBezTo>
                <a:cubicBezTo>
                  <a:pt x="4090" y="500"/>
                  <a:pt x="4104" y="624"/>
                  <a:pt x="4176" y="672"/>
                </a:cubicBezTo>
                <a:cubicBezTo>
                  <a:pt x="4204" y="715"/>
                  <a:pt x="4219" y="704"/>
                  <a:pt x="4272" y="696"/>
                </a:cubicBezTo>
                <a:cubicBezTo>
                  <a:pt x="4283" y="680"/>
                  <a:pt x="4298" y="666"/>
                  <a:pt x="4304" y="648"/>
                </a:cubicBezTo>
                <a:cubicBezTo>
                  <a:pt x="4320" y="599"/>
                  <a:pt x="4331" y="547"/>
                  <a:pt x="4360" y="504"/>
                </a:cubicBezTo>
                <a:cubicBezTo>
                  <a:pt x="4378" y="432"/>
                  <a:pt x="4352" y="519"/>
                  <a:pt x="4400" y="424"/>
                </a:cubicBezTo>
                <a:cubicBezTo>
                  <a:pt x="4416" y="391"/>
                  <a:pt x="4428" y="350"/>
                  <a:pt x="4448" y="320"/>
                </a:cubicBezTo>
                <a:cubicBezTo>
                  <a:pt x="4466" y="293"/>
                  <a:pt x="4489" y="270"/>
                  <a:pt x="4504" y="240"/>
                </a:cubicBezTo>
                <a:cubicBezTo>
                  <a:pt x="4529" y="189"/>
                  <a:pt x="4543" y="121"/>
                  <a:pt x="4584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3"/>
          <p:cNvSpPr/>
          <p:nvPr/>
        </p:nvSpPr>
        <p:spPr>
          <a:xfrm>
            <a:off x="1184400" y="1871640"/>
            <a:ext cx="13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入庁できてうれし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4"/>
          <p:cNvSpPr/>
          <p:nvPr/>
        </p:nvSpPr>
        <p:spPr>
          <a:xfrm>
            <a:off x="2133720" y="266688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仕事がマンネリ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5"/>
          <p:cNvSpPr/>
          <p:nvPr/>
        </p:nvSpPr>
        <p:spPr>
          <a:xfrm>
            <a:off x="3083040" y="297504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異動で一気に不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3666960" y="1871640"/>
            <a:ext cx="24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新職場で一丸となって働き、充実感あ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7"/>
          <p:cNvSpPr/>
          <p:nvPr/>
        </p:nvSpPr>
        <p:spPr>
          <a:xfrm>
            <a:off x="1184400" y="157644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8"/>
          <p:cNvSpPr/>
          <p:nvPr/>
        </p:nvSpPr>
        <p:spPr>
          <a:xfrm>
            <a:off x="1914480" y="1576440"/>
            <a:ext cx="8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２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9"/>
          <p:cNvSpPr/>
          <p:nvPr/>
        </p:nvSpPr>
        <p:spPr>
          <a:xfrm>
            <a:off x="271764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3521160" y="157644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1"/>
          <p:cNvSpPr/>
          <p:nvPr/>
        </p:nvSpPr>
        <p:spPr>
          <a:xfrm>
            <a:off x="432432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2"/>
          <p:cNvSpPr/>
          <p:nvPr/>
        </p:nvSpPr>
        <p:spPr>
          <a:xfrm>
            <a:off x="512748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3"/>
          <p:cNvSpPr/>
          <p:nvPr/>
        </p:nvSpPr>
        <p:spPr>
          <a:xfrm>
            <a:off x="585792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4"/>
          <p:cNvSpPr/>
          <p:nvPr/>
        </p:nvSpPr>
        <p:spPr>
          <a:xfrm>
            <a:off x="666108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5"/>
          <p:cNvSpPr/>
          <p:nvPr/>
        </p:nvSpPr>
        <p:spPr>
          <a:xfrm>
            <a:off x="7464600" y="157644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6"/>
          <p:cNvSpPr/>
          <p:nvPr/>
        </p:nvSpPr>
        <p:spPr>
          <a:xfrm>
            <a:off x="819468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7"/>
          <p:cNvSpPr/>
          <p:nvPr/>
        </p:nvSpPr>
        <p:spPr>
          <a:xfrm>
            <a:off x="6324480" y="1905120"/>
            <a:ext cx="19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複数の申請・手続き担当になり、超多忙。浮き沈みが激しい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9"/>
          <p:cNvSpPr/>
          <p:nvPr/>
        </p:nvSpPr>
        <p:spPr>
          <a:xfrm>
            <a:off x="5105520" y="76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記入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0"/>
          <p:cNvSpPr/>
          <p:nvPr/>
        </p:nvSpPr>
        <p:spPr>
          <a:xfrm>
            <a:off x="304920" y="18288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1"/>
          <p:cNvSpPr/>
          <p:nvPr/>
        </p:nvSpPr>
        <p:spPr>
          <a:xfrm>
            <a:off x="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14040" y="563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3"/>
          <p:cNvSpPr/>
          <p:nvPr/>
        </p:nvSpPr>
        <p:spPr>
          <a:xfrm>
            <a:off x="14040" y="35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"/>
          <p:cNvSpPr/>
          <p:nvPr/>
        </p:nvSpPr>
        <p:spPr>
          <a:xfrm>
            <a:off x="1404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5"/>
          <p:cNvSpPr/>
          <p:nvPr/>
        </p:nvSpPr>
        <p:spPr>
          <a:xfrm>
            <a:off x="1404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6"/>
          <p:cNvSpPr/>
          <p:nvPr/>
        </p:nvSpPr>
        <p:spPr>
          <a:xfrm>
            <a:off x="380880" y="76212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7"/>
          <p:cNvSpPr/>
          <p:nvPr/>
        </p:nvSpPr>
        <p:spPr>
          <a:xfrm>
            <a:off x="380880" y="327672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8"/>
          <p:cNvSpPr/>
          <p:nvPr/>
        </p:nvSpPr>
        <p:spPr>
          <a:xfrm>
            <a:off x="380880" y="4343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9"/>
          <p:cNvSpPr/>
          <p:nvPr/>
        </p:nvSpPr>
        <p:spPr>
          <a:xfrm>
            <a:off x="38088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0"/>
          <p:cNvSpPr/>
          <p:nvPr/>
        </p:nvSpPr>
        <p:spPr>
          <a:xfrm>
            <a:off x="0" y="0"/>
            <a:ext cx="762120" cy="609480"/>
          </a:xfrm>
          <a:prstGeom prst="wedgeEllipseCallout">
            <a:avLst>
              <a:gd name="adj1" fmla="val -25416"/>
              <a:gd name="adj2" fmla="val 97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1"/>
          <p:cNvSpPr/>
          <p:nvPr/>
        </p:nvSpPr>
        <p:spPr>
          <a:xfrm>
            <a:off x="0" y="152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記入の順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2"/>
          <p:cNvSpPr/>
          <p:nvPr/>
        </p:nvSpPr>
        <p:spPr>
          <a:xfrm>
            <a:off x="1447920" y="838080"/>
            <a:ext cx="3047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地元でやりがいのある仕事をしたかった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民間企業より安定した職場で働きたかった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3"/>
          <p:cNvSpPr/>
          <p:nvPr/>
        </p:nvSpPr>
        <p:spPr>
          <a:xfrm>
            <a:off x="5638680" y="762120"/>
            <a:ext cx="327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できれば人と接する仕事がしたかった。やりがいをもってバリバリ働きたかった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日々業務を通じて、たくさんの人と出会い、夢は半ば実現したかな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4"/>
          <p:cNvSpPr/>
          <p:nvPr/>
        </p:nvSpPr>
        <p:spPr>
          <a:xfrm>
            <a:off x="7696080" y="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事前学習課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5"/>
          <p:cNvSpPr/>
          <p:nvPr/>
        </p:nvSpPr>
        <p:spPr>
          <a:xfrm>
            <a:off x="457200" y="655308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6"/>
          <p:cNvSpPr/>
          <p:nvPr/>
        </p:nvSpPr>
        <p:spPr>
          <a:xfrm>
            <a:off x="0" y="647712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記入不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7"/>
          <p:cNvSpPr/>
          <p:nvPr/>
        </p:nvSpPr>
        <p:spPr>
          <a:xfrm>
            <a:off x="533520" y="1523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8"/>
          <p:cNvSpPr/>
          <p:nvPr/>
        </p:nvSpPr>
        <p:spPr>
          <a:xfrm>
            <a:off x="6781680" y="5791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第一子出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895480" y="0"/>
            <a:ext cx="419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5000"/>
              <a:buFont typeface="Wingdings" charset="2"/>
              <a:buChar char="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ＰPOP体"/>
                <a:ea typeface="ＤＦＰPOP体"/>
              </a:rPr>
              <a:t>これまでの自分をふりかえろ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553080" y="0"/>
            <a:ext cx="25909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2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　　月　　日（　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氏名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720" y="457200"/>
            <a:ext cx="8991000" cy="5867280"/>
            <a:chOff x="720" y="457200"/>
            <a:chExt cx="8991000" cy="5867280"/>
          </a:xfrm>
        </p:grpSpPr>
        <p:sp>
          <p:nvSpPr>
            <p:cNvPr id="135" name="Rectangle 5"/>
            <p:cNvSpPr/>
            <p:nvPr/>
          </p:nvSpPr>
          <p:spPr>
            <a:xfrm>
              <a:off x="152280" y="457200"/>
              <a:ext cx="8839440" cy="586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12160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7"/>
            <p:cNvSpPr/>
            <p:nvPr/>
          </p:nvSpPr>
          <p:spPr>
            <a:xfrm>
              <a:off x="162576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>
              <a:off x="20350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>
              <a:off x="244476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326232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285264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367200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448956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408132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48988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>
              <a:off x="5308560" y="1219680"/>
              <a:ext cx="0" cy="5104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71824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612792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653580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69454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>
              <a:off x="735480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77644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817236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858204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>
              <a:off x="152280" y="121968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>
              <a:off x="152280" y="159948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>
              <a:off x="152280" y="304704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8"/>
            <p:cNvSpPr/>
            <p:nvPr/>
          </p:nvSpPr>
          <p:spPr>
            <a:xfrm>
              <a:off x="152280" y="419076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152280" y="541044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183240" y="1599480"/>
              <a:ext cx="3628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元気度・満足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720" y="3047040"/>
              <a:ext cx="54540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担当した仕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720" y="4190760"/>
              <a:ext cx="5454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身につけた能力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3"/>
            <p:cNvSpPr/>
            <p:nvPr/>
          </p:nvSpPr>
          <p:spPr>
            <a:xfrm>
              <a:off x="762120" y="2273040"/>
              <a:ext cx="818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34"/>
            <p:cNvSpPr/>
            <p:nvPr/>
          </p:nvSpPr>
          <p:spPr>
            <a:xfrm>
              <a:off x="479520" y="159948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35"/>
            <p:cNvSpPr/>
            <p:nvPr/>
          </p:nvSpPr>
          <p:spPr>
            <a:xfrm>
              <a:off x="479520" y="274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36"/>
            <p:cNvSpPr/>
            <p:nvPr/>
          </p:nvSpPr>
          <p:spPr>
            <a:xfrm>
              <a:off x="179280" y="838080"/>
              <a:ext cx="36684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7"/>
            <p:cNvSpPr/>
            <p:nvPr/>
          </p:nvSpPr>
          <p:spPr>
            <a:xfrm>
              <a:off x="152280" y="457200"/>
              <a:ext cx="88394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入庁の理由　　　　　　　　　　　　　　　　　　　　　　　入庁時の夢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　　　　　　　　　　　　　　　　　　　　　　　　夢の行方　　　　　　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8"/>
            <p:cNvSpPr/>
            <p:nvPr/>
          </p:nvSpPr>
          <p:spPr>
            <a:xfrm>
              <a:off x="720" y="5561640"/>
              <a:ext cx="54540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私生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39"/>
            <p:cNvSpPr/>
            <p:nvPr/>
          </p:nvSpPr>
          <p:spPr>
            <a:xfrm>
              <a:off x="76212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40"/>
          <p:cNvSpPr/>
          <p:nvPr/>
        </p:nvSpPr>
        <p:spPr>
          <a:xfrm>
            <a:off x="152280" y="647712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なたの傾向：＋の要因　　　　　　　　　　　　　　　　　　　　　－の要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152280" y="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事前学習課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228600" y="1363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1:08:01Z</dcterms:created>
  <dc:creator>user01</dc:creator>
  <dc:description/>
  <dc:language>en-US</dc:language>
  <cp:lastModifiedBy>山本 香織</cp:lastModifiedBy>
  <dcterms:modified xsi:type="dcterms:W3CDTF">2025-06-23T02:10:40Z</dcterms:modified>
  <cp:revision>21</cp:revision>
  <dc:subject/>
  <dc:title>PowerPoint プレゼンテーション</dc:title>
</cp:coreProperties>
</file>